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B09F-C065-426B-8DAC-99D95AB7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AEA-7EF1-43D4-8943-72AAD00A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48D-CD01-43A7-9E5D-84E71632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228-2262-48A8-BDDE-E94F66D8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81C-9453-4A3E-B736-5B708B2D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392-9418-4F26-9890-5037AEBB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5E7-6305-4277-BAAD-9713178E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EE4-DAB9-4417-BDA5-2531764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0FE-98D1-4828-8502-CC6A52D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02C-1BDB-44D1-8812-D6C7C1E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B29-A1F6-4AF2-AA0A-A1AB5A9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2B1-7E07-49B6-BAAF-D0367D4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CBC-252F-4DB0-A8FF-F897F79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367-1740-4DF5-B540-7E6E0A616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5-05-26T14:37:30Z</dcterms:modified>
  <cp:revision>47</cp:revision>
  <dc:subject/>
  <dc:title>Evidence for Evolution</dc:title>
</cp:coreProperties>
</file>